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3FFF4-9082-4BBC-9C89-01E026311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F8082-BA49-458F-A83B-B0D63AE88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4D3C0-30B3-4E52-B9E1-7D1E256EA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70C29-27D5-44AB-94B7-CFAB35AFD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FA026-337F-4AA1-83C0-9CDF92B05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DE7C9-0128-4137-AAE7-51EBE3B1D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402ED-BF94-4887-9CA2-276813334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335E7-9C18-4051-B9C9-DA06A53D5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236D8-8251-4B92-99E4-8EA3E5860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F9436-B6C5-425A-8CF2-9E91F8AEA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85D09-D84A-4FAB-8971-679F78F93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EC94F-A91E-4158-9FAD-FFCF48E28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4ECC2-FDC1-4948-8A4C-2FC83C3D51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143000"/>
            <a:ext cx="792468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odal-Related Proceedings at the Public Utility Commission of Texas</a:t>
            </a:r>
            <a:endParaRPr b="0" lang="en-US" sz="4400" spc="-1" strike="noStrike">
              <a:solidFill>
                <a:srgbClr val="000000"/>
              </a:solidFill>
              <a:latin typeface="Arial"/>
            </a:endParaRPr>
          </a:p>
        </p:txBody>
      </p:sp>
      <p:sp>
        <p:nvSpPr>
          <p:cNvPr id="42" name="PlaceHolder 2"/>
          <p:cNvSpPr>
            <a:spLocks noGrp="1"/>
          </p:cNvSpPr>
          <p:nvPr>
            <p:ph type="subTitle"/>
          </p:nvPr>
        </p:nvSpPr>
        <p:spPr>
          <a:xfrm>
            <a:off x="1523520" y="4723920"/>
            <a:ext cx="6248520" cy="11430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ith Rogas</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 7, 2005</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TAC Special Mee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eding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No. 28500 – Up until recently, all nodal-related activities occurred in this projec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oceeding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ket No. 31540 – docket for Commission consideration of nodal protoco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No. 31600 – Transition to an ERCOT Nodal Market Desig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No. 31575 – Improvements to the ERCOT Zonal Market De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No. 28500</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ities in this project may stop given the creation of the three new proceed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ocols Docket, 31540</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ation as a “docket” means that it is a contested case under the Administrative Procedure Ac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parte prohibition applies to the docket; don’t communicate to the Commissioners or the “advising staff” about an issue of law or fact in the docket, except through written pleadings served on the parties or in meetings scheduled for the docke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ocols Docket, 31540</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issioners’ “advising staff” in the docket include their aides, staff in the Policy Development Division, and Adrianne Brand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ssion staff not part of the advising staff include staff in the Wholesale Market Oversight Sec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ocols Docket, 31540</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agenda for the September 8</a:t>
            </a:r>
            <a:r>
              <a:rPr b="0" lang="en-US" sz="3200" spc="-1" strike="noStrike" baseline="30000">
                <a:solidFill>
                  <a:srgbClr val="000000"/>
                </a:solidFill>
                <a:latin typeface="Arial"/>
              </a:rPr>
              <a:t>th</a:t>
            </a:r>
            <a:r>
              <a:rPr b="0" lang="en-US" sz="3200" spc="-1" strike="noStrike">
                <a:solidFill>
                  <a:srgbClr val="000000"/>
                </a:solidFill>
                <a:latin typeface="Arial"/>
              </a:rPr>
              <a:t> Open Me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es’ lists of issues due September 13</a:t>
            </a:r>
            <a:r>
              <a:rPr b="0" lang="en-US" sz="3200" spc="-1" strike="noStrike" baseline="30000">
                <a:solidFill>
                  <a:srgbClr val="000000"/>
                </a:solidFill>
                <a:latin typeface="Arial"/>
              </a:rPr>
              <a:t>th</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pe of docket is scheduled to be addressed at the September 21</a:t>
            </a:r>
            <a:r>
              <a:rPr b="0" lang="en-US" sz="3200" spc="-1" strike="noStrike" baseline="30000">
                <a:solidFill>
                  <a:srgbClr val="000000"/>
                </a:solidFill>
                <a:latin typeface="Arial"/>
              </a:rPr>
              <a:t>st</a:t>
            </a:r>
            <a:r>
              <a:rPr b="0" lang="en-US" sz="3200" spc="-1" strike="noStrike">
                <a:solidFill>
                  <a:srgbClr val="000000"/>
                </a:solidFill>
                <a:latin typeface="Arial"/>
              </a:rPr>
              <a:t> Open Mee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Project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No. 31600 – Transition to an ERCOT Nodal Market Des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No. 31575 – Improvements to the ERCOT Zonal Market Des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ssion staff plans to discuss these projects at the September 21</a:t>
            </a:r>
            <a:r>
              <a:rPr b="0" lang="en-US" sz="3200" spc="-1" strike="noStrike" baseline="30000">
                <a:solidFill>
                  <a:srgbClr val="000000"/>
                </a:solidFill>
                <a:latin typeface="Arial"/>
              </a:rPr>
              <a:t>st</a:t>
            </a:r>
            <a:r>
              <a:rPr b="0" lang="en-US" sz="3200" spc="-1" strike="noStrike">
                <a:solidFill>
                  <a:srgbClr val="000000"/>
                </a:solidFill>
                <a:latin typeface="Arial"/>
              </a:rPr>
              <a:t> Open Me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1T18:11:53Z</dcterms:created>
  <dc:creator>krogas</dc:creator>
  <dc:description/>
  <dc:language>en-US</dc:language>
  <cp:lastModifiedBy>Ann S. Boren</cp:lastModifiedBy>
  <dcterms:modified xsi:type="dcterms:W3CDTF">2005-09-06T21:11:35Z</dcterms:modified>
  <cp:revision>28</cp:revision>
  <dc:subject/>
  <dc:title>Slide 1</dc:title>
</cp:coreProperties>
</file>